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EB0C-0B65-41F7-A721-30CDC28BE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lickbiology.com/igcse-plant-reproduction-powerpoint-presentation-workshee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2.nicerweb.com/Locked/media/ch38/flow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plants/plantclassification/section2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xtremepapers.com/revision/gcse/biology/reprodu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2geneticswikib.wikispaces.com/Sexual+and+Asexual+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A/AsexualReprodu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FC9-8E5F-445A-819C-1270A9E5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0B0-BAC9-4F39-B8E8-DD120D7D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B66-48E6-493F-A423-A803A88A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64B-E0C9-4F34-80F2-E833C72E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041-C1F1-450A-9E70-709D4BE8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3C6-7EF0-49D1-8269-D6F1B1B4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515-65B6-4EC2-B8C7-6E28EEBE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83D-4313-4831-9DCD-0B3F2554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19C-986C-407C-908D-15AAAD63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5C6-3DD9-4656-93FC-B4AD3768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1BB-6F06-4E16-B102-0117B25C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84E-4FC4-48AD-83E8-BA782D5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4AF2-DB25-4233-BA47-0AEB3192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63800" y="1828800"/>
            <a:ext cx="521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pollination vs. self-poll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vegetative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stems, leaves, or roots t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3720" y="609480"/>
            <a:ext cx="775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554120"/>
            <a:ext cx="77724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rent plan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less energy &amp;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rental traits are well-suited to environment, offspring will also be well-s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lets survive better than seedlings from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genetic divers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ntire population being wi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interven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tt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produce new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f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ranches of trees onto other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ssue cul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reproduce orchi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32120" y="609480"/>
            <a:ext cx="527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includ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genet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are able to be dispersed from parent plant (less compet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can remain dormant until conditions become favo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4T01:20:23Z</dcterms:created>
  <dc:creator>rubina khan</dc:creator>
  <dc:description/>
  <dc:language>en-US</dc:language>
  <cp:lastModifiedBy>rubina khan</cp:lastModifiedBy>
  <dcterms:modified xsi:type="dcterms:W3CDTF">2013-06-04T01:52:37Z</dcterms:modified>
  <cp:revision>29</cp:revision>
  <dc:subject/>
  <dc:title>Plant Reproduction</dc:title>
</cp:coreProperties>
</file>